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21E8-FC9B-4C4A-B5B4-45DEDE38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75B6-56E3-4E98-832F-11509D80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49A5-7EFC-4B8C-9D52-8AFA60BD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5302-1238-4A14-BEE2-DBDBCC13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16D-7B56-472A-AB5E-F585F867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FDAD-7B64-455B-9480-95111FD9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B9AC-07DB-45C6-A60B-CC2B194F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757F-85DE-40FE-AFAD-A019DE2B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8EA-AA64-4E90-9779-4E92661D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C748-5E70-4A22-AD01-DD8FA730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F259-CF5D-43EC-A32B-88D6B79B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CF30-807F-40BA-9FA3-9985564B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F645-AAE9-4D9B-A04C-C7FD85A8A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84240"/>
            <a:ext cx="8610480" cy="6599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371600"/>
            <a:ext cx="76960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ell Structure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&amp; Fun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308640"/>
            <a:ext cx="4876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koning.ecsu.ctstateu.edu/cell/cel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ell Par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rganel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rrounding 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19720" y="1752120"/>
            <a:ext cx="44193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er membrane of cell that controls movement in and out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lay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520" y="19209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" y="6248520"/>
            <a:ext cx="68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ly found in plant cells &amp;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&amp; protects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84464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3520" y="6172200"/>
            <a:ext cx="6248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ide 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s cel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d from cytoplasm by nuclear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genetic material -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ounds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of two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ings allow material to enter and leave nucl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607860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instructions for traits &amp; characteris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199548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880" y="6248520"/>
            <a:ext cx="7086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RNA to build prote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95680" y="169056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6095880"/>
            <a:ext cx="762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6248520"/>
            <a:ext cx="6400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l-like mix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unded by 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hereditary mater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living things are made up of c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are the smallest working units of all living thin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ells come from preexisting cells through cell divi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192096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90760" y="1218960"/>
            <a:ext cx="4647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s materials around in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type: lacks 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 type (pictured): ribosomes embedded in surf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6095880"/>
            <a:ext cx="70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ell contains thous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on ribosomes &amp; floating throughout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8320" y="1844640"/>
            <a:ext cx="4190760" cy="4191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0880" y="6172200"/>
            <a:ext cx="5791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energy through chemical reactions – breaking down fats &amp;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level of water and other materials in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ycles and decomposes proteins, fats, and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486400" y="16765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8600" y="6172200"/>
            <a:ext cx="6400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lgi Bo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 'packaging plant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materials within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materials out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419720" y="1387440"/>
            <a:ext cx="4190760" cy="4191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0880" y="6078600"/>
            <a:ext cx="7315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ve 'plant' for proteins, fats, and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undigested material to cell membrane for rem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breaks down if lysosome expl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733920" cy="3733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6467400"/>
            <a:ext cx="7391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cu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rane-bound sacs for storage, digestion, and waste rem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wate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plants maintain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6248520"/>
            <a:ext cx="6172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found in pl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green chlorophy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photosynthesis takes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0" y="176832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7200" y="617220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 of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ell is the smallest unit that is capable of performing life fun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1436760" cy="2298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81680" y="1219320"/>
            <a:ext cx="1919520" cy="1893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867280" y="4724280"/>
            <a:ext cx="1905120" cy="1771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38280" y="1676520"/>
            <a:ext cx="2819520" cy="533160"/>
          </a:xfrm>
          <a:prstGeom prst="wedgeRoundRectCallout">
            <a:avLst>
              <a:gd name="adj1" fmla="val -78435"/>
              <a:gd name="adj2" fmla="val 3541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eba Prot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438280"/>
            <a:ext cx="1981440" cy="381240"/>
          </a:xfrm>
          <a:prstGeom prst="wedgeRoundRectCallout">
            <a:avLst>
              <a:gd name="adj1" fmla="val 97115"/>
              <a:gd name="adj2" fmla="val -5124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 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4114800"/>
            <a:ext cx="2362320" cy="457200"/>
          </a:xfrm>
          <a:prstGeom prst="wedgeRoundRectCallout">
            <a:avLst>
              <a:gd name="adj1" fmla="val -34208"/>
              <a:gd name="adj2" fmla="val 20937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04920" y="4114800"/>
            <a:ext cx="1596960" cy="2187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0" y="5029200"/>
            <a:ext cx="1981080" cy="457200"/>
          </a:xfrm>
          <a:prstGeom prst="wedgeRoundRectCallout">
            <a:avLst>
              <a:gd name="adj1" fmla="val -107291"/>
              <a:gd name="adj2" fmla="val 7777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v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657600" y="3048120"/>
            <a:ext cx="2019240" cy="1655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3000" y="3276720"/>
            <a:ext cx="2057400" cy="533160"/>
          </a:xfrm>
          <a:prstGeom prst="wedgeRoundRectCallout">
            <a:avLst>
              <a:gd name="adj1" fmla="val 114736"/>
              <a:gd name="adj2" fmla="val 4196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wo Type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karyo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have structures surrounded by membr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internal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celled organisms, Bact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038480" y="1676520"/>
            <a:ext cx="4648320" cy="4025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640080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C004535/prokaryotic_cell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ukaryo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rrounded by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19720" y="2743200"/>
            <a:ext cx="4375080" cy="3646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4191120" cy="316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43000" y="2438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2438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61722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632448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C004535/eukaryotic_cell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ical” Anima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80880" y="995400"/>
            <a:ext cx="8077320" cy="5862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8600" y="617220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ttp://web.jjay.cuny.edu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~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carpi/NSC/images/cell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6324480"/>
            <a:ext cx="83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waynesword.palomar.edu/images/plant3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ical” Plan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617220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02:38:52Z</dcterms:created>
  <dc:creator>Mary Poarch</dc:creator>
  <dc:description/>
  <dc:language>en-US</dc:language>
  <cp:lastModifiedBy>Mary Poarch</cp:lastModifiedBy>
  <dcterms:modified xsi:type="dcterms:W3CDTF">2005-02-13T21:11:58Z</dcterms:modified>
  <cp:revision>86</cp:revision>
  <dc:subject/>
  <dc:title>Cell Structure &amp; Function</dc:title>
</cp:coreProperties>
</file>